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94D-85A3-437A-AB4F-770E790A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6CF-E037-4299-BD60-CEA0317C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158-9EC2-43A3-AE1D-5139B705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9D1-CB47-485D-9FB8-F14789BB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835-4C7D-438B-90F9-10F6B096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C82-ED22-4161-99CD-B9DD95F6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07D-AD81-45D4-8D2D-913966BC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683-2997-4F65-A3B7-B5B18EA5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674-5A6F-4C0E-B821-F460C00D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1DC-BBBB-4D4D-8379-64B757B6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454-C454-4CDF-9E4F-CD6B0601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570-4F2B-400D-A20B-416157A5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5559-35A6-4C70-86B2-8050F18816B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Ravie"/>
              </a:rPr>
              <a:t>ESSAY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Ravie"/>
              </a:rPr>
              <a:t>WRIT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IMPLE </a:t>
            </a: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EP G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G00315_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295360" cy="2590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848720" cy="327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Write the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ahoma"/>
              </a:rPr>
              <a:t>introduc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280"/>
            <a:ext cx="3809880" cy="2590920"/>
          </a:xfrm>
          <a:prstGeom prst="cloudCallout">
            <a:avLst>
              <a:gd name="adj1" fmla="val 60333"/>
              <a:gd name="adj2" fmla="val 61212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276360"/>
            <a:ext cx="7010280" cy="327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Write the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ahoma"/>
              </a:rPr>
              <a:t>main body</a:t>
            </a:r>
            <a:r>
              <a:rPr b="0" lang="en-US" sz="6600" spc="-1" strike="noStrike">
                <a:solidFill>
                  <a:srgbClr val="000000"/>
                </a:solidFill>
                <a:latin typeface="Ravie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3809880" cy="2590920"/>
          </a:xfrm>
          <a:prstGeom prst="cloudCallout">
            <a:avLst>
              <a:gd name="adj1" fmla="val 60333"/>
              <a:gd name="adj2" fmla="val 61212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276360"/>
            <a:ext cx="7010280" cy="327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Write your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ahoma"/>
              </a:rPr>
              <a:t>conclus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280"/>
            <a:ext cx="3809880" cy="2590920"/>
          </a:xfrm>
          <a:prstGeom prst="cloudCallout">
            <a:avLst>
              <a:gd name="adj1" fmla="val 60333"/>
              <a:gd name="adj2" fmla="val 61212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4724280" cy="1447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th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280"/>
            <a:ext cx="2819520" cy="1981440"/>
          </a:xfrm>
          <a:prstGeom prst="cloudCallout">
            <a:avLst>
              <a:gd name="adj1" fmla="val 80574"/>
              <a:gd name="adj2" fmla="val 39421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51460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ou need to read all the questions on offer. Reading all the possibilities allows you to make an informed choice. Some questions you will recognise, some you will no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e will usually be a question on each aspect below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rac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ssues/id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ructure (opening/incident/end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eelings and emo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9880" y="151920"/>
            <a:ext cx="5105520" cy="2133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Re-read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the question you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52280"/>
            <a:ext cx="2743200" cy="1981440"/>
          </a:xfrm>
          <a:prstGeom prst="cloudCallout">
            <a:avLst>
              <a:gd name="adj1" fmla="val 70370"/>
              <a:gd name="adj2" fmla="val 40064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438280"/>
            <a:ext cx="8458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ce you have made a decision on the question you should re-read this question. This is to ensure that you under stand all parts of the question. If there are any words you do not understand then choose another ques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67080" y="228600"/>
            <a:ext cx="4648320" cy="1828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derline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280"/>
            <a:ext cx="2666880" cy="2057400"/>
          </a:xfrm>
          <a:prstGeom prst="cloudCallout">
            <a:avLst>
              <a:gd name="adj1" fmla="val 87023"/>
              <a:gd name="adj2" fmla="val 2908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352680"/>
            <a:ext cx="79246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is is to ensure that you are focused on the important parts of the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For example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25909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Describe an important character and explain why they are importa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Becomes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25909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Describe a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important character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 and explain why they ar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important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3733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You should keep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ahoma"/>
              </a:rPr>
              <a:t>repeating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those keywords throughout your essay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D00709_(p)" descr="Click To Download"/>
          <p:cNvPicPr/>
          <p:nvPr/>
        </p:nvPicPr>
        <p:blipFill>
          <a:blip r:embed="rId1"/>
          <a:stretch/>
        </p:blipFill>
        <p:spPr>
          <a:xfrm>
            <a:off x="-457200" y="1752480"/>
            <a:ext cx="5791320" cy="601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8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6000" spc="-1" strike="noStrike">
                <a:solidFill>
                  <a:srgbClr val="3333cc"/>
                </a:solidFill>
                <a:latin typeface="Tahoma"/>
              </a:rPr>
              <a:t>structure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is like a hamburg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895480" y="5334120"/>
            <a:ext cx="6019920" cy="1556280"/>
            <a:chOff x="2895480" y="5334120"/>
            <a:chExt cx="6019920" cy="1556280"/>
          </a:xfrm>
        </p:grpSpPr>
        <p:sp>
          <p:nvSpPr>
            <p:cNvPr id="51" name=""/>
            <p:cNvSpPr/>
            <p:nvPr/>
          </p:nvSpPr>
          <p:spPr>
            <a:xfrm>
              <a:off x="5791320" y="5334120"/>
              <a:ext cx="3124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Tahoma"/>
                </a:rPr>
                <a:t>Conclus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2895480" y="5790960"/>
              <a:ext cx="2667240" cy="7596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819520" y="2362320"/>
            <a:ext cx="6324480" cy="1600200"/>
            <a:chOff x="2819520" y="2362320"/>
            <a:chExt cx="6324480" cy="1600200"/>
          </a:xfrm>
        </p:grpSpPr>
        <p:sp>
          <p:nvSpPr>
            <p:cNvPr id="54" name=""/>
            <p:cNvSpPr/>
            <p:nvPr/>
          </p:nvSpPr>
          <p:spPr>
            <a:xfrm>
              <a:off x="5410080" y="2362320"/>
              <a:ext cx="3733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Tahoma"/>
                </a:rPr>
                <a:t>Introduct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2819520" y="2971800"/>
              <a:ext cx="2133360" cy="9907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276720" y="3657600"/>
            <a:ext cx="5562360" cy="1676520"/>
            <a:chOff x="3276720" y="3657600"/>
            <a:chExt cx="5562360" cy="1676520"/>
          </a:xfrm>
        </p:grpSpPr>
        <p:sp>
          <p:nvSpPr>
            <p:cNvPr id="57" name=""/>
            <p:cNvSpPr/>
            <p:nvPr/>
          </p:nvSpPr>
          <p:spPr>
            <a:xfrm>
              <a:off x="5867280" y="3657600"/>
              <a:ext cx="2971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Tahoma"/>
                </a:rPr>
                <a:t>Main body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276720" y="4267080"/>
              <a:ext cx="2286000" cy="10670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24280" y="304560"/>
            <a:ext cx="3657600" cy="1904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lan you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key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52280"/>
            <a:ext cx="2590920" cy="1905120"/>
          </a:xfrm>
          <a:prstGeom prst="cloudCallout">
            <a:avLst>
              <a:gd name="adj1" fmla="val 92648"/>
              <a:gd name="adj2" fmla="val 28666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59092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is the time that you decide how to answer the question. Usually the answers can be found from the box below. Just relate these to the question ask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447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KEY IDEAS SHOULD COVER POINTS 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. Pl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Charac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S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4. The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5. Feel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6.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7. Langu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8. Sym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9. Gen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0. Auth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1. Society’s 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2. Compari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For example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2514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Describe a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important character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 and explain why they ar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important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Possible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 they are involved in key moments which can create suspense or moments of 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they help us to better understand other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t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they help us to appreciate the setting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the character helps reveal the t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elin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through the actions and dialogue of the character they cause us to feel particular emo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4343400" cy="2057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lan you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ev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52280"/>
            <a:ext cx="2590920" cy="1600200"/>
          </a:xfrm>
          <a:prstGeom prst="cloudCallout">
            <a:avLst>
              <a:gd name="adj1" fmla="val 96629"/>
              <a:gd name="adj2" fmla="val 52578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2895480"/>
            <a:ext cx="7467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t this point you need to be able to back up your key ideas. To do this you must provide detailed and specific information from the tex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Ravie"/>
              </a:rPr>
              <a:t>EVIDENCE MEANS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3657600"/>
            <a:ext cx="6476760" cy="1981080"/>
          </a:xfrm>
          <a:prstGeom prst="cloudCallout">
            <a:avLst>
              <a:gd name="adj1" fmla="val -45587"/>
              <a:gd name="adj2" fmla="val 93111"/>
            </a:avLst>
          </a:prstGeom>
          <a:solidFill>
            <a:srgbClr val="6666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EV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3276720"/>
            <a:ext cx="6476760" cy="1981080"/>
          </a:xfrm>
          <a:prstGeom prst="cloudCallout">
            <a:avLst>
              <a:gd name="adj1" fmla="val -45587"/>
              <a:gd name="adj2" fmla="val 93111"/>
            </a:avLst>
          </a:prstGeom>
          <a:solidFill>
            <a:srgbClr val="6666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QUO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3733920"/>
            <a:ext cx="6477120" cy="1981080"/>
          </a:xfrm>
          <a:prstGeom prst="cloudCallout">
            <a:avLst>
              <a:gd name="adj1" fmla="val -39703"/>
              <a:gd name="adj2" fmla="val 35416"/>
            </a:avLst>
          </a:prstGeom>
          <a:solidFill>
            <a:srgbClr val="6666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AC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809880"/>
            <a:ext cx="8381880" cy="1981440"/>
          </a:xfrm>
          <a:prstGeom prst="cloudCallout">
            <a:avLst>
              <a:gd name="adj1" fmla="val -31134"/>
              <a:gd name="adj2" fmla="val 93111"/>
            </a:avLst>
          </a:prstGeom>
          <a:solidFill>
            <a:srgbClr val="6666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ANECDO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723920" y="456840"/>
            <a:ext cx="3962520" cy="1676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rite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52280"/>
            <a:ext cx="2438280" cy="1600200"/>
          </a:xfrm>
          <a:prstGeom prst="cloudCallout">
            <a:avLst>
              <a:gd name="adj1" fmla="val 102606"/>
              <a:gd name="adj2" fmla="val 48412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09480" y="2286000"/>
            <a:ext cx="8305920" cy="3124080"/>
            <a:chOff x="609480" y="2286000"/>
            <a:chExt cx="8305920" cy="3124080"/>
          </a:xfrm>
        </p:grpSpPr>
        <p:pic>
          <p:nvPicPr>
            <p:cNvPr id="165" name="FD00709_(p)" descr="Click To Download"/>
            <p:cNvPicPr/>
            <p:nvPr/>
          </p:nvPicPr>
          <p:blipFill>
            <a:blip r:embed="rId1"/>
            <a:srcRect l="10422" t="10422" r="11397" b="11397"/>
            <a:stretch/>
          </p:blipFill>
          <p:spPr>
            <a:xfrm>
              <a:off x="609480" y="2971800"/>
              <a:ext cx="24386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 flipV="1">
              <a:off x="2362320" y="2819160"/>
              <a:ext cx="1981080" cy="99036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19720" y="2286000"/>
              <a:ext cx="4495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INTRODUCTIO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85800" y="2971800"/>
            <a:ext cx="76201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2286000"/>
            <a:ext cx="9144000" cy="49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You should keep this paragraph as short and to the point as possible. You need only include the follow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The name of the text and the auth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Clearly answer the question us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ey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List your key id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An important character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Kristen ITC"/>
              </a:rPr>
              <a:t>I Am Not Esther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by </a:t>
            </a:r>
            <a:r>
              <a:rPr b="0" lang="en-US" sz="4000" spc="-1" strike="noStrike">
                <a:solidFill>
                  <a:srgbClr val="3333cc"/>
                </a:solidFill>
                <a:latin typeface="Kristen ITC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leur </a:t>
            </a:r>
            <a:r>
              <a:rPr b="0" lang="en-US" sz="4000" spc="-1" strike="noStrike">
                <a:solidFill>
                  <a:srgbClr val="3333cc"/>
                </a:solidFill>
                <a:latin typeface="Kristen ITC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eale is Kirby.  She is </a:t>
            </a:r>
            <a:r>
              <a:rPr b="0" lang="en-US" sz="4000" spc="-1" strike="noStrike">
                <a:solidFill>
                  <a:srgbClr val="3333cc"/>
                </a:solidFill>
                <a:latin typeface="Kristen ITC"/>
              </a:rPr>
              <a:t>important because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she reveals the themes the theme of personal identity, provokes an emotional response for the reader and is involved in moments of ten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152280"/>
            <a:ext cx="2590920" cy="1295640"/>
          </a:xfrm>
          <a:prstGeom prst="borderCallout2">
            <a:avLst>
              <a:gd name="adj1" fmla="val 18750"/>
              <a:gd name="adj2" fmla="val -8333"/>
              <a:gd name="adj3" fmla="val 8824"/>
              <a:gd name="adj4" fmla="val -48837"/>
              <a:gd name="adj5" fmla="val 148037"/>
              <a:gd name="adj6" fmla="val -84495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s key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52280"/>
            <a:ext cx="2590920" cy="3124440"/>
          </a:xfrm>
          <a:prstGeom prst="borderCallout2">
            <a:avLst>
              <a:gd name="adj1" fmla="val 18750"/>
              <a:gd name="adj2" fmla="val -8333"/>
              <a:gd name="adj3" fmla="val 3657"/>
              <a:gd name="adj4" fmla="val 197796"/>
              <a:gd name="adj5" fmla="val 66768"/>
              <a:gd name="adj6" fmla="val 274018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iv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tle – and underlines it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2667240" cy="3200400"/>
          </a:xfrm>
          <a:prstGeom prst="borderCallout2">
            <a:avLst>
              <a:gd name="adj1" fmla="val 18750"/>
              <a:gd name="adj2" fmla="val -8333"/>
              <a:gd name="adj3" fmla="val 3569"/>
              <a:gd name="adj4" fmla="val 146666"/>
              <a:gd name="adj5" fmla="val 73611"/>
              <a:gd name="adj6" fmla="val 180833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ames author – uses capital letters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152280"/>
            <a:ext cx="2590920" cy="1295640"/>
          </a:xfrm>
          <a:prstGeom prst="borderCallout2">
            <a:avLst>
              <a:gd name="adj1" fmla="val 18750"/>
              <a:gd name="adj2" fmla="val -8333"/>
              <a:gd name="adj3" fmla="val 8824"/>
              <a:gd name="adj4" fmla="val -33944"/>
              <a:gd name="adj5" fmla="val 221814"/>
              <a:gd name="adj6" fmla="val -55884"/>
            </a:avLst>
          </a:prstGeom>
          <a:solidFill>
            <a:srgbClr val="6666ff"/>
          </a:soli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swers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52280" y="152280"/>
            <a:ext cx="5257800" cy="5715000"/>
            <a:chOff x="152280" y="152280"/>
            <a:chExt cx="5257800" cy="5715000"/>
          </a:xfrm>
        </p:grpSpPr>
        <p:sp>
          <p:nvSpPr>
            <p:cNvPr id="178" name=""/>
            <p:cNvSpPr/>
            <p:nvPr/>
          </p:nvSpPr>
          <p:spPr>
            <a:xfrm>
              <a:off x="1905120" y="152280"/>
              <a:ext cx="2590560" cy="1295640"/>
            </a:xfrm>
            <a:prstGeom prst="borderCallout2">
              <a:avLst>
                <a:gd name="adj1" fmla="val 18750"/>
                <a:gd name="adj2" fmla="val -8333"/>
                <a:gd name="adj3" fmla="val 8824"/>
                <a:gd name="adj4" fmla="val 174939"/>
                <a:gd name="adj5" fmla="val 228921"/>
                <a:gd name="adj6" fmla="val 232782"/>
              </a:avLst>
            </a:prstGeom>
            <a:solidFill>
              <a:srgbClr val="3333cc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Lists 3 key idea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2280" y="3657600"/>
              <a:ext cx="533520" cy="53352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6920" y="5334120"/>
              <a:ext cx="533160" cy="53316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2280" y="4724280"/>
              <a:ext cx="533520" cy="53352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2819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Let’s look at another question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80880" y="3657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Describe a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interesting idea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 and explain why it is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interesting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15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An </a:t>
            </a:r>
            <a:r>
              <a:rPr b="0" lang="en-US" sz="4000" spc="-1" strike="noStrike">
                <a:solidFill>
                  <a:srgbClr val="3333cc"/>
                </a:solidFill>
                <a:latin typeface="Kristen ITC"/>
              </a:rPr>
              <a:t>interesting idea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in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Kristen ITC"/>
              </a:rPr>
              <a:t>How Dare You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by </a:t>
            </a:r>
            <a:r>
              <a:rPr b="0" lang="en-US" sz="4000" spc="-1" strike="noStrike">
                <a:solidFill>
                  <a:srgbClr val="3333cc"/>
                </a:solidFill>
                <a:latin typeface="Kristen ITC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ane </a:t>
            </a:r>
            <a:r>
              <a:rPr b="0" lang="en-US" sz="4000" spc="-1" strike="noStrike">
                <a:solidFill>
                  <a:srgbClr val="3333cc"/>
                </a:solidFill>
                <a:latin typeface="Kristen ITC"/>
              </a:rPr>
              <a:t>W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estaway is family violence.  This is </a:t>
            </a:r>
            <a:r>
              <a:rPr b="0" lang="en-US" sz="4000" spc="-1" strike="noStrike">
                <a:solidFill>
                  <a:srgbClr val="3333cc"/>
                </a:solidFill>
                <a:latin typeface="Kristen ITC"/>
              </a:rPr>
              <a:t>interesting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because it makes the reader feel both sad and angry, gives the reader an insight into a world they may not experience themselves and provides moments of suspense in the tex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228600"/>
            <a:ext cx="2590920" cy="3124080"/>
          </a:xfrm>
          <a:prstGeom prst="borderCallout2">
            <a:avLst>
              <a:gd name="adj1" fmla="val 18750"/>
              <a:gd name="adj2" fmla="val -8333"/>
              <a:gd name="adj3" fmla="val 3657"/>
              <a:gd name="adj4" fmla="val -34009"/>
              <a:gd name="adj5" fmla="val 50509"/>
              <a:gd name="adj6" fmla="val -58027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ames author – using capital letters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152280"/>
            <a:ext cx="2590920" cy="1295640"/>
          </a:xfrm>
          <a:prstGeom prst="borderCallout2">
            <a:avLst>
              <a:gd name="adj1" fmla="val 18750"/>
              <a:gd name="adj2" fmla="val -8333"/>
              <a:gd name="adj3" fmla="val 8824"/>
              <a:gd name="adj4" fmla="val -29472"/>
              <a:gd name="adj5" fmla="val 160907"/>
              <a:gd name="adj6" fmla="val -48347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swers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495680" y="152280"/>
            <a:ext cx="2590560" cy="2057400"/>
            <a:chOff x="4495680" y="152280"/>
            <a:chExt cx="2590560" cy="2057400"/>
          </a:xfrm>
        </p:grpSpPr>
        <p:sp>
          <p:nvSpPr>
            <p:cNvPr id="192" name=""/>
            <p:cNvSpPr/>
            <p:nvPr/>
          </p:nvSpPr>
          <p:spPr>
            <a:xfrm>
              <a:off x="4495680" y="152280"/>
              <a:ext cx="2590560" cy="1295640"/>
            </a:xfrm>
            <a:prstGeom prst="borderCallout2">
              <a:avLst>
                <a:gd name="adj1" fmla="val 18750"/>
                <a:gd name="adj2" fmla="val -8333"/>
                <a:gd name="adj3" fmla="val 8824"/>
                <a:gd name="adj4" fmla="val -48898"/>
                <a:gd name="adj5" fmla="val 71814"/>
                <a:gd name="adj6" fmla="val -84560"/>
              </a:avLst>
            </a:prstGeom>
            <a:solidFill>
              <a:srgbClr val="3333cc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Uses key word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1447920"/>
              <a:ext cx="0" cy="76176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295280" y="2438280"/>
            <a:ext cx="2667240" cy="2514600"/>
          </a:xfrm>
          <a:prstGeom prst="borderCallout2">
            <a:avLst>
              <a:gd name="adj1" fmla="val 18750"/>
              <a:gd name="adj2" fmla="val -8333"/>
              <a:gd name="adj3" fmla="val 4546"/>
              <a:gd name="adj4" fmla="val 136666"/>
              <a:gd name="adj5" fmla="val -36680"/>
              <a:gd name="adj6" fmla="val 163037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iv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tle – and underlines it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1523880" y="7162920"/>
            <a:ext cx="533160" cy="533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981080" y="0"/>
            <a:ext cx="4496040" cy="6400800"/>
            <a:chOff x="1981080" y="0"/>
            <a:chExt cx="4496040" cy="6400800"/>
          </a:xfrm>
        </p:grpSpPr>
        <p:grpSp>
          <p:nvGrpSpPr>
            <p:cNvPr id="197" name=""/>
            <p:cNvGrpSpPr/>
            <p:nvPr/>
          </p:nvGrpSpPr>
          <p:grpSpPr>
            <a:xfrm>
              <a:off x="1981080" y="0"/>
              <a:ext cx="4496040" cy="3809880"/>
              <a:chOff x="1981080" y="0"/>
              <a:chExt cx="4496040" cy="3809880"/>
            </a:xfrm>
          </p:grpSpPr>
          <p:sp>
            <p:nvSpPr>
              <p:cNvPr id="198" name=""/>
              <p:cNvSpPr/>
              <p:nvPr/>
            </p:nvSpPr>
            <p:spPr>
              <a:xfrm>
                <a:off x="3886200" y="0"/>
                <a:ext cx="2590920" cy="1295280"/>
              </a:xfrm>
              <a:prstGeom prst="borderCallout2">
                <a:avLst>
                  <a:gd name="adj1" fmla="val 18750"/>
                  <a:gd name="adj2" fmla="val -8333"/>
                  <a:gd name="adj3" fmla="val 8824"/>
                  <a:gd name="adj4" fmla="val -54166"/>
                  <a:gd name="adj5" fmla="val 208944"/>
                  <a:gd name="adj6" fmla="val -95282"/>
                </a:avLst>
              </a:prstGeom>
              <a:solidFill>
                <a:srgbClr val="3333cc"/>
              </a:solidFill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Lists 3 key idea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81080" y="2743200"/>
                <a:ext cx="533520" cy="533520"/>
              </a:xfrm>
              <a:prstGeom prst="ellipse">
                <a:avLst/>
              </a:prstGeom>
              <a:solidFill>
                <a:srgbClr val="3333cc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00600" y="3276720"/>
                <a:ext cx="533520" cy="533160"/>
              </a:xfrm>
              <a:prstGeom prst="ellipse">
                <a:avLst/>
              </a:prstGeom>
              <a:solidFill>
                <a:srgbClr val="3333cc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057400" y="5867280"/>
              <a:ext cx="533520" cy="53352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0920" y="-228600"/>
            <a:ext cx="5257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You don’t necessarily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at a burger for the</a:t>
            </a: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 bun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 but they hold the burger togeth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498760"/>
            <a:ext cx="6095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 the same way t</a:t>
            </a: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he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oduction</a:t>
            </a: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clusion</a:t>
            </a: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 are not the most important part but they hold your essay together and stop it being mess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j0112288(p)" descr="Click To Download"/>
          <p:cNvPicPr/>
          <p:nvPr/>
        </p:nvPicPr>
        <p:blipFill>
          <a:blip r:embed="rId1"/>
          <a:stretch/>
        </p:blipFill>
        <p:spPr>
          <a:xfrm>
            <a:off x="685800" y="2286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64" name="j0121569(p)" descr="Click To Download"/>
          <p:cNvPicPr/>
          <p:nvPr/>
        </p:nvPicPr>
        <p:blipFill>
          <a:blip r:embed="rId2"/>
          <a:stretch/>
        </p:blipFill>
        <p:spPr>
          <a:xfrm>
            <a:off x="6248520" y="37339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80920" y="152280"/>
            <a:ext cx="5410440" cy="1981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rite the Main Body of you ess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922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 each key idea you have you  need to write one paragraph. These paragraphs all follow the same form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opic sentenc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stating your key id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videnc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from the text to support you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id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 A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xplanation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linking your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vide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ck to the question clearly answering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3520" y="3048120"/>
            <a:ext cx="8305560" cy="2438280"/>
            <a:chOff x="533520" y="3048120"/>
            <a:chExt cx="8305560" cy="2438280"/>
          </a:xfrm>
        </p:grpSpPr>
        <p:pic>
          <p:nvPicPr>
            <p:cNvPr id="207" name="FD00709_(p)" descr="Click To Download"/>
            <p:cNvPicPr/>
            <p:nvPr/>
          </p:nvPicPr>
          <p:blipFill>
            <a:blip r:embed="rId1"/>
            <a:srcRect l="10422" t="10422" r="11397" b="11397"/>
            <a:stretch/>
          </p:blipFill>
          <p:spPr>
            <a:xfrm>
              <a:off x="533520" y="30481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362320" y="4343400"/>
              <a:ext cx="327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38680" y="3962520"/>
              <a:ext cx="3200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ahoma"/>
                </a:rPr>
                <a:t>MAIN BOD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52280" y="228600"/>
            <a:ext cx="2514600" cy="1752480"/>
          </a:xfrm>
          <a:prstGeom prst="cloudCallout">
            <a:avLst>
              <a:gd name="adj1" fmla="val 54796"/>
              <a:gd name="adj2" fmla="val 42120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2819520"/>
            <a:ext cx="922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ate your key id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se the keywords from the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hould be short and to the 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re like a signpost indicating what your paragraph is abo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228600"/>
            <a:ext cx="8458200" cy="1981080"/>
          </a:xfrm>
          <a:prstGeom prst="cloudCallout">
            <a:avLst>
              <a:gd name="adj1" fmla="val 42435"/>
              <a:gd name="adj2" fmla="val 91828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Ravie"/>
              </a:rPr>
              <a:t>TOPIC SENTENC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686800" cy="2666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Firstly, an </a:t>
            </a:r>
            <a:r>
              <a:rPr b="0" lang="en-US" sz="6000" spc="-1" strike="noStrike">
                <a:solidFill>
                  <a:srgbClr val="3333cc"/>
                </a:solidFill>
                <a:latin typeface="Kristen ITC"/>
              </a:rPr>
              <a:t>important character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in the text is Esth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152280"/>
            <a:ext cx="2692440" cy="1447920"/>
          </a:xfrm>
          <a:prstGeom prst="borderCallout2">
            <a:avLst>
              <a:gd name="adj1" fmla="val 18750"/>
              <a:gd name="adj2" fmla="val -8333"/>
              <a:gd name="adj3" fmla="val 7893"/>
              <a:gd name="adj4" fmla="val -16393"/>
              <a:gd name="adj5" fmla="val 131250"/>
              <a:gd name="adj6" fmla="val -30481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s key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4572000"/>
            <a:ext cx="6673680" cy="2133720"/>
          </a:xfrm>
          <a:prstGeom prst="borderCallout2">
            <a:avLst>
              <a:gd name="adj1" fmla="val 18750"/>
              <a:gd name="adj2" fmla="val -8333"/>
              <a:gd name="adj3" fmla="val 5356"/>
              <a:gd name="adj4" fmla="val -3805"/>
              <a:gd name="adj5" fmla="val -9671"/>
              <a:gd name="adj6" fmla="val -6495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key idea here is that Esther is the important charac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4952880"/>
            <a:ext cx="3768840" cy="1297080"/>
          </a:xfrm>
          <a:prstGeom prst="borderCallout1">
            <a:avLst>
              <a:gd name="adj1" fmla="val 18750"/>
              <a:gd name="adj2" fmla="val -8333"/>
              <a:gd name="adj3" fmla="val -55689"/>
              <a:gd name="adj4" fmla="val -10699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ort and to the 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2971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Esther is </a:t>
            </a:r>
            <a:r>
              <a:rPr b="0" lang="en-US" sz="6000" spc="-1" strike="noStrike">
                <a:solidFill>
                  <a:srgbClr val="3333cc"/>
                </a:solidFill>
                <a:latin typeface="Kristen ITC"/>
              </a:rPr>
              <a:t>important because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she reveals a the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60440" y="3581280"/>
            <a:ext cx="2692440" cy="1447920"/>
          </a:xfrm>
          <a:prstGeom prst="borderCallout2">
            <a:avLst>
              <a:gd name="adj1" fmla="val 18750"/>
              <a:gd name="adj2" fmla="val -8333"/>
              <a:gd name="adj3" fmla="val 7893"/>
              <a:gd name="adj4" fmla="val 113736"/>
              <a:gd name="adj5" fmla="val -142652"/>
              <a:gd name="adj6" fmla="val 124648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s key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809880"/>
            <a:ext cx="6553080" cy="2667240"/>
          </a:xfrm>
          <a:prstGeom prst="borderCallout2">
            <a:avLst>
              <a:gd name="adj1" fmla="val 18750"/>
              <a:gd name="adj2" fmla="val -8333"/>
              <a:gd name="adj3" fmla="val 4287"/>
              <a:gd name="adj4" fmla="val 102930"/>
              <a:gd name="adj5" fmla="val -53513"/>
              <a:gd name="adj6" fmla="val 104722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key idea here is that Esther is an important character because we learn about a theme through 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3276720"/>
            <a:ext cx="3810240" cy="1981080"/>
          </a:xfrm>
          <a:prstGeom prst="borderCallout1">
            <a:avLst>
              <a:gd name="adj1" fmla="val 18750"/>
              <a:gd name="adj2" fmla="val -8333"/>
              <a:gd name="adj3" fmla="val -13379"/>
              <a:gd name="adj4" fmla="val -21083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ain, short and to the 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28600" y="2514240"/>
            <a:ext cx="922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an be quotes, examples, actions deta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otes should only be 5-6 words l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You must use “   ’’ around t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y must be embed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28600"/>
            <a:ext cx="8458200" cy="1600200"/>
          </a:xfrm>
          <a:prstGeom prst="cloudCallout">
            <a:avLst>
              <a:gd name="adj1" fmla="val 46282"/>
              <a:gd name="adj2" fmla="val 87995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Ravie"/>
              </a:rPr>
              <a:t>EVIDENC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4956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This idea is shown when Mr Poata says </a:t>
            </a:r>
            <a:r>
              <a:rPr b="0" lang="en-US" sz="6000" spc="-1" strike="noStrike">
                <a:solidFill>
                  <a:srgbClr val="ff3300"/>
                </a:solidFill>
                <a:latin typeface="Kristen ITC"/>
              </a:rPr>
              <a:t>“It’s private, isn’t it?”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when she asks for help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5029200"/>
            <a:ext cx="2971800" cy="1447920"/>
          </a:xfrm>
          <a:prstGeom prst="borderCallout2">
            <a:avLst>
              <a:gd name="adj1" fmla="val 18750"/>
              <a:gd name="adj2" fmla="val -8333"/>
              <a:gd name="adj3" fmla="val 7893"/>
              <a:gd name="adj4" fmla="val -10842"/>
              <a:gd name="adj5" fmla="val -124342"/>
              <a:gd name="adj6" fmla="val -19870"/>
            </a:avLst>
          </a:prstGeom>
          <a:solidFill>
            <a:srgbClr val="ff33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s quote ma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5160" y="5791320"/>
            <a:ext cx="3768840" cy="838080"/>
          </a:xfrm>
          <a:prstGeom prst="borderCallout1">
            <a:avLst>
              <a:gd name="adj1" fmla="val 18750"/>
              <a:gd name="adj2" fmla="val -8333"/>
              <a:gd name="adj3" fmla="val -112689"/>
              <a:gd name="adj4" fmla="val -77842"/>
            </a:avLst>
          </a:prstGeom>
          <a:solidFill>
            <a:srgbClr val="ff33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ort qu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7600" y="162000"/>
            <a:ext cx="6019920" cy="3724200"/>
            <a:chOff x="147600" y="162000"/>
            <a:chExt cx="6019920" cy="3724200"/>
          </a:xfrm>
        </p:grpSpPr>
        <p:sp>
          <p:nvSpPr>
            <p:cNvPr id="237" name=""/>
            <p:cNvSpPr/>
            <p:nvPr/>
          </p:nvSpPr>
          <p:spPr>
            <a:xfrm>
              <a:off x="147600" y="162000"/>
              <a:ext cx="6019920" cy="2157480"/>
            </a:xfrm>
            <a:prstGeom prst="borderCallout2">
              <a:avLst>
                <a:gd name="adj1" fmla="val 18750"/>
                <a:gd name="adj2" fmla="val -8333"/>
                <a:gd name="adj3" fmla="val 5296"/>
                <a:gd name="adj4" fmla="val 113634"/>
                <a:gd name="adj5" fmla="val 116777"/>
                <a:gd name="adj6" fmla="val 116111"/>
              </a:avLst>
            </a:prstGeom>
            <a:solidFill>
              <a:srgbClr val="ff3300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The quote is embedded: words before and after it to explain the context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38280" y="2362320"/>
              <a:ext cx="0" cy="1523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52280" y="75960"/>
            <a:ext cx="8839440" cy="6629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I felt sorry for the Grandmother as she was described as being “frail with age”, lived in a “shabby room” and only has one “good brown dress”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0"/>
            <a:ext cx="2971800" cy="1447920"/>
          </a:xfrm>
          <a:prstGeom prst="borderCallout2">
            <a:avLst>
              <a:gd name="adj1" fmla="val 18750"/>
              <a:gd name="adj2" fmla="val -8333"/>
              <a:gd name="adj3" fmla="val 7893"/>
              <a:gd name="adj4" fmla="val -8865"/>
              <a:gd name="adj5" fmla="val 174231"/>
              <a:gd name="adj6" fmla="val -15652"/>
            </a:avLst>
          </a:prstGeom>
          <a:solidFill>
            <a:srgbClr val="ff33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s quote ma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95680" y="5105520"/>
            <a:ext cx="4648320" cy="1600200"/>
            <a:chOff x="4495680" y="5105520"/>
            <a:chExt cx="4648320" cy="1600200"/>
          </a:xfrm>
        </p:grpSpPr>
        <p:sp>
          <p:nvSpPr>
            <p:cNvPr id="244" name=""/>
            <p:cNvSpPr/>
            <p:nvPr/>
          </p:nvSpPr>
          <p:spPr>
            <a:xfrm>
              <a:off x="4495680" y="5867280"/>
              <a:ext cx="3311640" cy="838440"/>
            </a:xfrm>
            <a:prstGeom prst="borderCallout1">
              <a:avLst>
                <a:gd name="adj1" fmla="val 18750"/>
                <a:gd name="adj2" fmla="val -8333"/>
                <a:gd name="adj3" fmla="val -10037"/>
                <a:gd name="adj4" fmla="val -32263"/>
              </a:avLst>
            </a:prstGeom>
            <a:solidFill>
              <a:srgbClr val="ff3300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short quot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32360" y="5105520"/>
              <a:ext cx="3311640" cy="838080"/>
            </a:xfrm>
            <a:prstGeom prst="borderCallout1">
              <a:avLst>
                <a:gd name="adj1" fmla="val 18750"/>
                <a:gd name="adj2" fmla="val -8333"/>
                <a:gd name="adj3" fmla="val -57953"/>
                <a:gd name="adj4" fmla="val -92185"/>
              </a:avLst>
            </a:prstGeom>
            <a:solidFill>
              <a:srgbClr val="ff3300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short quot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90920" y="0"/>
            <a:ext cx="6248160" cy="4495320"/>
            <a:chOff x="2590920" y="0"/>
            <a:chExt cx="6248160" cy="4495320"/>
          </a:xfrm>
        </p:grpSpPr>
        <p:sp>
          <p:nvSpPr>
            <p:cNvPr id="247" name=""/>
            <p:cNvSpPr/>
            <p:nvPr/>
          </p:nvSpPr>
          <p:spPr>
            <a:xfrm>
              <a:off x="2590920" y="0"/>
              <a:ext cx="6248160" cy="2666880"/>
            </a:xfrm>
            <a:prstGeom prst="borderCallout2">
              <a:avLst>
                <a:gd name="adj1" fmla="val 18750"/>
                <a:gd name="adj2" fmla="val -8333"/>
                <a:gd name="adj3" fmla="val 4287"/>
                <a:gd name="adj4" fmla="val -19513"/>
                <a:gd name="adj5" fmla="val 111606"/>
                <a:gd name="adj6" fmla="val -22740"/>
              </a:avLst>
            </a:prstGeom>
            <a:solidFill>
              <a:srgbClr val="ff3300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The quotes are embedded: they flow into a sentence which is easy to read and clear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352680" y="2742840"/>
              <a:ext cx="304560" cy="9903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57800" y="2742840"/>
              <a:ext cx="532800" cy="17524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04560" y="2514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hould refer back and answer the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an include some personal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65280" indent="-470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ill usually answer the second half of the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28600"/>
            <a:ext cx="9144000" cy="1600200"/>
          </a:xfrm>
          <a:prstGeom prst="cloudCallout">
            <a:avLst>
              <a:gd name="adj1" fmla="val -38643"/>
              <a:gd name="adj2" fmla="val 789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Ravie"/>
              </a:rPr>
              <a:t>EXPLAN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This </a:t>
            </a:r>
            <a:r>
              <a:rPr b="0" lang="en-US" sz="6000" spc="-1" strike="noStrike">
                <a:solidFill>
                  <a:srgbClr val="3333cc"/>
                </a:solidFill>
                <a:latin typeface="Kristen ITC"/>
              </a:rPr>
              <a:t>idea is important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because it makes the reader aware of how we need to take action if we suspect violence even if it is in people’s hom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1600200"/>
            <a:ext cx="3124440" cy="1981080"/>
          </a:xfrm>
          <a:prstGeom prst="borderCallout2">
            <a:avLst>
              <a:gd name="adj1" fmla="val 18750"/>
              <a:gd name="adj2" fmla="val -8333"/>
              <a:gd name="adj3" fmla="val 5768"/>
              <a:gd name="adj4" fmla="val -13111"/>
              <a:gd name="adj5" fmla="val -23638"/>
              <a:gd name="adj6" fmla="val -24439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s key words from ques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352680"/>
            <a:ext cx="3692520" cy="1905120"/>
          </a:xfrm>
          <a:prstGeom prst="borderCallout1">
            <a:avLst>
              <a:gd name="adj1" fmla="val 18750"/>
              <a:gd name="adj2" fmla="val -8333"/>
              <a:gd name="adj3" fmla="val -30333"/>
              <a:gd name="adj4" fmla="val -18314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esn’t use I but uses ‘the reader’ inst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457200"/>
            <a:ext cx="4724280" cy="2743200"/>
          </a:xfrm>
          <a:prstGeom prst="borderCallout1">
            <a:avLst>
              <a:gd name="adj1" fmla="val 18750"/>
              <a:gd name="adj2" fmla="val -8333"/>
              <a:gd name="adj3" fmla="val 33277"/>
              <a:gd name="adj4" fmla="val -45328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swers the second half of the question: Why is the idea importa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105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This </a:t>
            </a:r>
            <a:r>
              <a:rPr b="0" lang="en-US" sz="6000" spc="-1" strike="noStrike">
                <a:solidFill>
                  <a:srgbClr val="3333cc"/>
                </a:solidFill>
                <a:latin typeface="Kristen ITC"/>
              </a:rPr>
              <a:t>character is</a:t>
            </a:r>
            <a:r>
              <a:rPr b="0" lang="en-US" sz="6000" spc="-1" strike="noStrike">
                <a:solidFill>
                  <a:srgbClr val="ff3300"/>
                </a:solidFill>
                <a:latin typeface="Kristen ITC"/>
              </a:rPr>
              <a:t> </a:t>
            </a:r>
            <a:r>
              <a:rPr b="0" lang="en-US" sz="6000" spc="-1" strike="noStrike">
                <a:solidFill>
                  <a:srgbClr val="3333cc"/>
                </a:solidFill>
                <a:latin typeface="Kristen ITC"/>
              </a:rPr>
              <a:t>interesting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because he reveals the idea of how people are too scared to interfere in domestic violence.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3733920"/>
            <a:ext cx="3124080" cy="1981080"/>
          </a:xfrm>
          <a:prstGeom prst="borderCallout2">
            <a:avLst>
              <a:gd name="adj1" fmla="val 18750"/>
              <a:gd name="adj2" fmla="val -8333"/>
              <a:gd name="adj3" fmla="val 5768"/>
              <a:gd name="adj4" fmla="val -13564"/>
              <a:gd name="adj5" fmla="val -41666"/>
              <a:gd name="adj6" fmla="val -24745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s key words from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6680" y="0"/>
            <a:ext cx="3692520" cy="1905120"/>
          </a:xfrm>
          <a:prstGeom prst="borderCallout1">
            <a:avLst>
              <a:gd name="adj1" fmla="val 18750"/>
              <a:gd name="adj2" fmla="val -8333"/>
              <a:gd name="adj3" fmla="val 156000"/>
              <a:gd name="adj4" fmla="val 125754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lates back to the ideas of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0"/>
            <a:ext cx="4572000" cy="3276720"/>
          </a:xfrm>
          <a:prstGeom prst="borderCallout1">
            <a:avLst>
              <a:gd name="adj1" fmla="val 18750"/>
              <a:gd name="adj2" fmla="val -8333"/>
              <a:gd name="adj3" fmla="val 75240"/>
              <a:gd name="adj4" fmla="val 124861"/>
            </a:avLst>
          </a:prstGeom>
          <a:solidFill>
            <a:srgbClr val="3333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swers the second half of the question: Why is the character interst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80880"/>
            <a:ext cx="601992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638680"/>
            <a:ext cx="609588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600200"/>
            <a:ext cx="601992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EY IDEA 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895480"/>
            <a:ext cx="609588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EY IDEA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267080"/>
            <a:ext cx="609588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EY IDEA TH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1066680"/>
            <a:ext cx="1828800" cy="1752840"/>
          </a:xfrm>
          <a:prstGeom prst="leftArrowCallout">
            <a:avLst>
              <a:gd name="adj1" fmla="val 25002"/>
              <a:gd name="adj2" fmla="val 25000"/>
              <a:gd name="adj3" fmla="val 17389"/>
              <a:gd name="adj4" fmla="val 666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838080"/>
            <a:ext cx="4038480" cy="3733920"/>
          </a:xfrm>
          <a:prstGeom prst="leftArrowCallout">
            <a:avLst>
              <a:gd name="adj1" fmla="val 13862"/>
              <a:gd name="adj2" fmla="val 13435"/>
              <a:gd name="adj3" fmla="val 19108"/>
              <a:gd name="adj4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way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a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n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tw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agra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19720" y="304920"/>
            <a:ext cx="4419360" cy="1828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rite you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52280"/>
            <a:ext cx="2590920" cy="1828800"/>
          </a:xfrm>
          <a:prstGeom prst="cloudCallout">
            <a:avLst>
              <a:gd name="adj1" fmla="val 83518"/>
              <a:gd name="adj2" fmla="val 48958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2554200"/>
            <a:ext cx="84582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nce again this should be kept simple and to the point. You need only include the follow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. Clearly answer the question once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tate your key ideas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Include a personal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In conclusion, Kirby is an </a:t>
            </a:r>
            <a:r>
              <a:rPr b="0" lang="en-US" sz="3600" spc="-1" strike="noStrike">
                <a:solidFill>
                  <a:srgbClr val="808080"/>
                </a:solidFill>
                <a:latin typeface="Kristen ITC"/>
              </a:rPr>
              <a:t>interesting character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 i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Kristen ITC"/>
              </a:rPr>
              <a:t>I Am Not Esther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. She was </a:t>
            </a:r>
            <a:r>
              <a:rPr b="0" lang="en-US" sz="3600" spc="-1" strike="noStrike">
                <a:solidFill>
                  <a:srgbClr val="808080"/>
                </a:solidFill>
                <a:latin typeface="Kristen ITC"/>
              </a:rPr>
              <a:t>interesting</a:t>
            </a:r>
            <a:r>
              <a:rPr b="0" lang="en-US" sz="3600" spc="-1" strike="noStrike">
                <a:solidFill>
                  <a:srgbClr val="c0c0c0"/>
                </a:solidFill>
                <a:latin typeface="Kristen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because through her the themes of courage and personal identity were raised.  Finally she was</a:t>
            </a:r>
            <a:r>
              <a:rPr b="0" lang="en-US" sz="3600" spc="-1" strike="noStrike">
                <a:solidFill>
                  <a:srgbClr val="c0c0c0"/>
                </a:solidFill>
                <a:latin typeface="Kristen ITC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Kristen ITC"/>
              </a:rPr>
              <a:t>interesting 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because she provoked an emotional response from the readers.  I admired the way she dealt with the obstacles and hoped she would be able to sort her problems 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438280" y="1981080"/>
            <a:ext cx="7162920" cy="4876920"/>
            <a:chOff x="2438280" y="1981080"/>
            <a:chExt cx="7162920" cy="4876920"/>
          </a:xfrm>
        </p:grpSpPr>
        <p:sp>
          <p:nvSpPr>
            <p:cNvPr id="273" name=""/>
            <p:cNvSpPr/>
            <p:nvPr/>
          </p:nvSpPr>
          <p:spPr>
            <a:xfrm>
              <a:off x="2438280" y="4952880"/>
              <a:ext cx="2460600" cy="1905120"/>
            </a:xfrm>
            <a:prstGeom prst="borderCallout1">
              <a:avLst>
                <a:gd name="adj1" fmla="val 18750"/>
                <a:gd name="adj2" fmla="val -8333"/>
                <a:gd name="adj3" fmla="val -35750"/>
                <a:gd name="adj4" fmla="val -39546"/>
              </a:avLst>
            </a:prstGeom>
            <a:solidFill>
              <a:srgbClr val="c0c0c0"/>
            </a:solidFill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Uses the key word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40600" y="1981080"/>
              <a:ext cx="2460600" cy="1905120"/>
            </a:xfrm>
            <a:prstGeom prst="borderCallout1">
              <a:avLst>
                <a:gd name="adj1" fmla="val 18750"/>
                <a:gd name="adj2" fmla="val -8333"/>
                <a:gd name="adj3" fmla="val -7500"/>
                <a:gd name="adj4" fmla="val -10643"/>
              </a:avLst>
            </a:prstGeom>
            <a:solidFill>
              <a:srgbClr val="c0c0c0"/>
            </a:solidFill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Uses the key word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00600" y="3352680"/>
              <a:ext cx="2460600" cy="1905120"/>
            </a:xfrm>
            <a:prstGeom prst="borderCallout1">
              <a:avLst>
                <a:gd name="adj1" fmla="val 18750"/>
                <a:gd name="adj2" fmla="val -8333"/>
                <a:gd name="adj3" fmla="val -36416"/>
                <a:gd name="adj4" fmla="val -32453"/>
              </a:avLst>
            </a:prstGeom>
            <a:solidFill>
              <a:srgbClr val="c0c0c0"/>
            </a:solidFill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Uses the key word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0" y="0"/>
            <a:ext cx="3146400" cy="2057400"/>
          </a:xfrm>
          <a:prstGeom prst="borderCallout1">
            <a:avLst>
              <a:gd name="adj1" fmla="val 18750"/>
              <a:gd name="adj2" fmla="val -8333"/>
              <a:gd name="adj3" fmla="val 56018"/>
              <a:gd name="adj4" fmla="val 174166"/>
            </a:avLst>
          </a:prstGeom>
          <a:solidFill>
            <a:srgbClr val="c0c0c0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early answers the ques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62320" y="914400"/>
            <a:ext cx="4038480" cy="2819520"/>
          </a:xfrm>
          <a:prstGeom prst="cloudCallout">
            <a:avLst>
              <a:gd name="adj1" fmla="val -19652"/>
              <a:gd name="adj2" fmla="val 76578"/>
            </a:avLst>
          </a:prstGeom>
          <a:solidFill>
            <a:srgbClr val="c0c0c0"/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ludes a personal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04920" y="0"/>
            <a:ext cx="6476760" cy="3733920"/>
            <a:chOff x="304920" y="0"/>
            <a:chExt cx="6476760" cy="3733920"/>
          </a:xfrm>
        </p:grpSpPr>
        <p:sp>
          <p:nvSpPr>
            <p:cNvPr id="279" name=""/>
            <p:cNvSpPr/>
            <p:nvPr/>
          </p:nvSpPr>
          <p:spPr>
            <a:xfrm>
              <a:off x="304920" y="0"/>
              <a:ext cx="3375000" cy="2527200"/>
            </a:xfrm>
            <a:prstGeom prst="borderCallout1">
              <a:avLst>
                <a:gd name="adj1" fmla="val 18750"/>
                <a:gd name="adj2" fmla="val -8333"/>
                <a:gd name="adj3" fmla="val 88064"/>
                <a:gd name="adj4" fmla="val 184666"/>
              </a:avLst>
            </a:prstGeom>
            <a:solidFill>
              <a:srgbClr val="c0c0c0"/>
            </a:solidFill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Clearly outlines the key ideas again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24280" y="30481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95880" y="251460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4120" y="19810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4419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Ravie"/>
              </a:rPr>
              <a:t>And  it’s that simple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AG00406_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313160" cy="356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3276360"/>
            <a:ext cx="7010280" cy="327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Read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the questi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280"/>
            <a:ext cx="3809880" cy="2590920"/>
          </a:xfrm>
          <a:prstGeom prst="cloudCallout">
            <a:avLst>
              <a:gd name="adj1" fmla="val 60333"/>
              <a:gd name="adj2" fmla="val 61212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3123720"/>
            <a:ext cx="7010280" cy="358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 u="sng">
                <a:solidFill>
                  <a:srgbClr val="000000"/>
                </a:solidFill>
                <a:uFillTx/>
                <a:latin typeface="Tahoma"/>
              </a:rPr>
              <a:t>Re-read</a:t>
            </a:r>
            <a:r>
              <a:rPr b="0" lang="en-US" sz="7800" spc="-1" strike="noStrike">
                <a:solidFill>
                  <a:srgbClr val="000000"/>
                </a:solidFill>
                <a:latin typeface="Tahoma"/>
              </a:rPr>
              <a:t> the question you </a:t>
            </a:r>
            <a:r>
              <a:rPr b="0" lang="en-US" sz="7800" spc="-1" strike="noStrike" u="sng">
                <a:solidFill>
                  <a:srgbClr val="000000"/>
                </a:solidFill>
                <a:uFillTx/>
                <a:latin typeface="Tahoma"/>
              </a:rPr>
              <a:t>choose</a:t>
            </a:r>
            <a:endParaRPr b="0" lang="en-US" sz="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280"/>
            <a:ext cx="3809880" cy="2590920"/>
          </a:xfrm>
          <a:prstGeom prst="cloudCallout">
            <a:avLst>
              <a:gd name="adj1" fmla="val 55875"/>
              <a:gd name="adj2" fmla="val 56189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3276360"/>
            <a:ext cx="7010280" cy="327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Underline the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ahoma"/>
              </a:rPr>
              <a:t>keyword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52280"/>
            <a:ext cx="3809880" cy="2590920"/>
          </a:xfrm>
          <a:prstGeom prst="cloudCallout">
            <a:avLst>
              <a:gd name="adj1" fmla="val 60333"/>
              <a:gd name="adj2" fmla="val 61212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3352680"/>
            <a:ext cx="7010280" cy="3276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Plan your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ahoma"/>
              </a:rPr>
              <a:t>key idea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52280"/>
            <a:ext cx="3809880" cy="2590920"/>
          </a:xfrm>
          <a:prstGeom prst="cloudCallout">
            <a:avLst>
              <a:gd name="adj1" fmla="val 60333"/>
              <a:gd name="adj2" fmla="val 61212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3276360"/>
            <a:ext cx="7010280" cy="327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Plan your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ahoma"/>
              </a:rPr>
              <a:t>evid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52280"/>
            <a:ext cx="3809880" cy="2590920"/>
          </a:xfrm>
          <a:prstGeom prst="cloudCallout">
            <a:avLst>
              <a:gd name="adj1" fmla="val 60333"/>
              <a:gd name="adj2" fmla="val 61212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Ravie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03:58:36Z</dcterms:created>
  <dc:creator>Staff</dc:creator>
  <dc:description/>
  <dc:language>en-US</dc:language>
  <cp:lastModifiedBy>cindyl</cp:lastModifiedBy>
  <dcterms:modified xsi:type="dcterms:W3CDTF">2003-08-28T02:04:35Z</dcterms:modified>
  <cp:revision>47</cp:revision>
  <dc:subject/>
  <dc:title>ESSAY WRITING</dc:title>
</cp:coreProperties>
</file>